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249-D3FB-4053-8EEF-934D4CE3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E8A9-7599-460F-9A36-832841C2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88E-B613-4417-BBDA-FC3EAB01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993-8F40-4CBA-AA04-679A3EB4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055A-0B80-493F-B26F-2F21A397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5782-17C3-4C10-B68F-433E7B5B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7AE-0F73-4F78-87C9-6912339C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13DE-E815-4407-B839-0897F09C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4AC-0459-4BE1-AB50-7855A3F4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9B1-70EF-46D2-8233-296A1064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387-DD48-4E58-A7FC-FA1F5377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8FA-485C-46BB-A65F-03ABC4DF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0AAD-ED7D-41D0-885D-3B07A6F04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657600" cy="262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09680" y="0"/>
            <a:ext cx="5029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schwitz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3720" y="58672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y: Anjali Rowe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5638680"/>
            <a:ext cx="388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z.about.com/d/history1900s/1/0/f/7/auschwitz17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2578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ad bodies in a gas cha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s a Jewish concentration camp complex that was established by the Nazi’s to carry out the Holoc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 was mainly for Polish political prisoners many of them died from starvation, diseases, or harsh trea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I was a primarily an extermination (mass killing) facility. Later on they included 4 large gas chambers were people were killed with large amounts of poisonous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II opened mainly as a slave labor center where they made synthetic r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457200"/>
            <a:ext cx="6476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at went on inside 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981080" cy="1301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1676520"/>
            <a:ext cx="2209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ttp://3.bp.blogspot.com/_FKUpGU_Jbp0/SYDEwEMM1SI/AAAAAAAABTY/i6ju2XYN_F0/s400/gas+chambers+-+Auschwitz.jp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s a Jewish concentration camp complex that was established by the Nazi’s to carry out the Holoc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re were 3 different “Auschwitz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 (May 19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I (early 19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II (October 19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first was created in May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cated approximately 37 miles west of Krakow, near the German-Polish b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438280" y="380880"/>
            <a:ext cx="44960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en and Where 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38680" y="2819520"/>
            <a:ext cx="2514600" cy="1579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5880" y="472428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leithjb.net/blog/wp-content/uploads/2008/11/Auschwitz_map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4419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 of Auschwitz I and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people that were involved was 1 ¼ million people, mostly Jews were killed at Auschwit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other victims included other races such as: Poles, Roma ( sometimes called Gypsies) , and Soviet prisoners of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09680" y="457200"/>
            <a:ext cx="4648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o Was Involved 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74960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61722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ttp://www.flyingchariotministries.com/260px-Star_of_David_svg.p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4419720"/>
            <a:ext cx="2043000" cy="141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48320" y="594360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ttp://www.holocaustresearchproject.org/nazioccupation/images/Soviet%20prisoners%20of%20war%20arrive%20at%20the%20Majdanek%20camp.jp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itler wanted them all gone because the “mass” wanted them gone 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blamed the communists, then he blamed the Slavs, and then he blamed the Je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me people believe that this event happened mainly because Hitler disliked the Jews and wanted them all gone. Hitler also blamed them for Germany’s economical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0" y="53352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y Hitler wanted them dead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781680" y="5029200"/>
            <a:ext cx="1809720" cy="1379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5105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733920" y="4876920"/>
            <a:ext cx="175716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ted States Holocaust Memorial Museum. "The Holocaust."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Holocaust Encyclopedia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http://www.ushmm.org/wlc/en/index.php?ModuleId=10005143 (accessed September 8, 200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gel, David. "Auschwitz."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World Book Student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orld Book, 2009. Web. 11 Dec. 200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666880" y="533520"/>
            <a:ext cx="4038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ibliography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53:09Z</dcterms:created>
  <dc:creator>21049</dc:creator>
  <dc:description/>
  <dc:language>en-US</dc:language>
  <cp:lastModifiedBy>21049</cp:lastModifiedBy>
  <dcterms:modified xsi:type="dcterms:W3CDTF">2009-12-16T17:53:58Z</dcterms:modified>
  <cp:revision>16</cp:revision>
  <dc:subject/>
  <dc:title>Slide 1</dc:title>
</cp:coreProperties>
</file>